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23F-4C6F-4600-A9DC-CDF76530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95F-C70B-4D84-AAD1-6981A7E2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22C-A873-4923-AB60-518926F6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1FF-44CA-49CC-B69F-408A8CFE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EC49-3CE8-4909-8E1C-241AF35E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B3B0-914F-435E-9D73-83EE1CDA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8EC8-CB8A-42B5-AE79-3702B23E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B90C-5809-481D-AB0C-6E2BDD24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AB51-ED97-45AE-A565-A4FA3096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7B2E-CD8B-435D-BDD6-84313B9E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384D-D37C-4196-B09D-11D2265F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C50E-83E2-4E16-A6E0-FDBDFB70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AADD-0C2E-478E-A0CF-32C45A7F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4D68-783D-4FB7-81FD-4412DC1E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72DD-220F-4978-9966-A0C912A5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962E-E8FC-4324-BA66-C604AE04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EEDE-092E-4641-B370-C8B0168E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EB3-4094-4E79-A20A-A0B89784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493-2D51-499A-A1D8-A01A3850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C36-B0E0-467A-87D2-87078A57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A4B-6F0E-4E8B-B5A0-DCCFB6E5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B742-CA13-436A-A713-957835B4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7F80-0D8B-447C-9A97-173E37A1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AFD7-EA6C-4732-A9BF-856695DA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A49D-B2FC-4B39-94E3-33B302F54DD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D8FF-B73D-4AC1-ADE0-DA0A48F9CCA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wzrhuC4dXg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Scientific Revolution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(review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rn World Histo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nit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Sci. Rev. &amp; Enlighten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0" t="15997" r="0" b="15997"/>
          <a:stretch/>
        </p:blipFill>
        <p:spPr>
          <a:xfrm>
            <a:off x="2590920" y="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ientific Method Refl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n your group’s Venn Diagram handout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rite your group’s answer: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hich situation is easier to predict -- soft drinks’ effects on your teeth OR how a teenager behaves at a party?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ll out the Venn Diagram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 show AT LEAST TW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ifferenc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and AT LEAST TW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milariti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between th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PHYSICAL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sciences and th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SOCIAL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scienc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35053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ept Mapping” it ou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concept is a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broad idea or them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: Discove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: Change over ti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concept can also be a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ime period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: Scientific Revolu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pp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 a concept is one way to organize the information details we have learned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ept Mapping” it ou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“concept map” is different than regular notes because the map can take on a visual or creative quality that adds to our understanding of the concept. Sometimes we call this “non-linear” thinking. 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486400" y="4343400"/>
            <a:ext cx="1684440" cy="23623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523880" y="4648320"/>
            <a:ext cx="2286000" cy="990360"/>
          </a:xfrm>
          <a:prstGeom prst="cloudCallout">
            <a:avLst>
              <a:gd name="adj1" fmla="val 112500"/>
              <a:gd name="adj2" fmla="val -376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Hmm…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I think…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fore we start…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I’ll show you some EXAMPLES of concept maps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You will be in NEW groups.  Each group will get a Word Box, two sentence/idea starters, and 4 topic areas. 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Use these to help you brainstorm connections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Your concept map should compare </a:t>
            </a:r>
            <a:r>
              <a:rPr b="1" i="1" lang="en-US" sz="2600" spc="-1" strike="noStrike">
                <a:solidFill>
                  <a:srgbClr val="eaeaea"/>
                </a:solidFill>
                <a:latin typeface="Arial"/>
              </a:rPr>
              <a:t>OLD</a:t>
            </a: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 ways of thinking (medieval) to the </a:t>
            </a:r>
            <a:r>
              <a:rPr b="1" i="1" lang="en-US" sz="2600" spc="-1" strike="noStrike">
                <a:solidFill>
                  <a:srgbClr val="eaeaea"/>
                </a:solidFill>
                <a:latin typeface="Arial"/>
              </a:rPr>
              <a:t>NEW</a:t>
            </a: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 ways of thinking (Sci. Rev.), and most importantly, it should tell us why the changes are </a:t>
            </a:r>
            <a:r>
              <a:rPr b="1" i="1" lang="en-US" sz="2600" spc="-1" strike="noStrike">
                <a:solidFill>
                  <a:srgbClr val="eaeaea"/>
                </a:solidFill>
                <a:latin typeface="Arial"/>
              </a:rPr>
              <a:t>IMPORTANT</a:t>
            </a: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 to society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N-Example #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t create another Venn Diagram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4956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N-Example #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t just draw a picture. You can INCLUDE pictures, but you need more than th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133720" y="3124080"/>
            <a:ext cx="472428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 #1 – Flow Cha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82882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 #1 – Flow Cha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95288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xample #2 – Comparison Tabl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057400" y="1278000"/>
            <a:ext cx="509112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 #3 - Branch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1635120"/>
            <a:ext cx="815328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ast Week…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looked at what people “knew” in the middle ages/medieval tim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found out NEW knowledge and ideas from the Scientific Revolu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agine what you’ll “know” tomorrow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www.youtube.com/watch?v=JwzrhuC4dXg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 #5 – Basic We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28600" y="1847880"/>
            <a:ext cx="5638680" cy="3647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283440" y="2133720"/>
            <a:ext cx="2403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 #5 – Complex We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752480" y="1425600"/>
            <a:ext cx="56390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will we be grade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 always, participating fully in the activity will be a big facto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7238880" y="4191120"/>
            <a:ext cx="1684440" cy="23619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657600" y="4952880"/>
            <a:ext cx="2362320" cy="1524240"/>
          </a:xfrm>
          <a:prstGeom prst="cloudCallout">
            <a:avLst>
              <a:gd name="adj1" fmla="val 92740"/>
              <a:gd name="adj2" fmla="val -55208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Hmm… what should I be doing right now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will we be grade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 always, participating fully in the activity will be a big facto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r concept map will be graded according to a rubric. You will get your own copy to look at closer. Basically, you want to includ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Conten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Structure of a concept map, not just no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Exploring conne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Clear and creative presentation of inf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238880" y="3429000"/>
            <a:ext cx="15242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cept Mapping – How do we star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ach person needs one copy of the Word Bank (orange). The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rubric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is on the back. You do not need blank paper and markers ye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Start with 5-10 minutes of brainstorming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with an elbow buddy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do you know about these words?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are some connections you can see right away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e there any words you do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recognize and need to look up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are your ideas for the concept map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n’t forget about the 2 Sentences/Idea starters and the 4 Topic Area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7620120" y="2438280"/>
            <a:ext cx="977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 Brainst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connections do you know already? Example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are some words we don’t recognize? Can a classmate help us ou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ept Map Op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YOU CHOOSE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You can work as a group or pair.  2-3 people only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You can work on your own.  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CONCEPT MAPS ARE DUE AT THE END OF THE PERIOD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5105520" y="3962520"/>
            <a:ext cx="542880" cy="761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2133720" y="3124080"/>
            <a:ext cx="542880" cy="7621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"/>
          <p:cNvPicPr/>
          <p:nvPr/>
        </p:nvPicPr>
        <p:blipFill>
          <a:blip r:embed="rId3"/>
          <a:stretch/>
        </p:blipFill>
        <p:spPr>
          <a:xfrm>
            <a:off x="2971800" y="3200400"/>
            <a:ext cx="542880" cy="762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"/>
          <p:cNvPicPr/>
          <p:nvPr/>
        </p:nvPicPr>
        <p:blipFill>
          <a:blip r:embed="rId4"/>
          <a:stretch/>
        </p:blipFill>
        <p:spPr>
          <a:xfrm>
            <a:off x="3809880" y="3200400"/>
            <a:ext cx="542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ept Maps – Go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664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OU CHOOSE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-316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ou can work as a group or pair.  2-3 people only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-316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ou can work on your ow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OU DECIDE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-316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at concept map format will work best for how you think? </a:t>
            </a:r>
            <a:br>
              <a:rPr sz="2000"/>
            </a:b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EX:  </a:t>
            </a:r>
            <a:r>
              <a:rPr b="1" i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Web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 for “outside the box” thinkers     EX: </a:t>
            </a:r>
            <a:r>
              <a:rPr b="1" i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Flow Chart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 for “linear/logical” thinker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-316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at is your plan for including all the information you will need? </a:t>
            </a:r>
            <a:br>
              <a:rPr sz="2000"/>
            </a:b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HINT HINT: Use your Word Bank sheet to start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NOW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you can take paper and markers </a:t>
            </a:r>
            <a:r>
              <a:rPr b="1" lang="en-US" sz="20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You can use more than one piece of pap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CEPT MAPS ARE DUE AT THE END OF THE PERIOD. You do have textbook homework that is due Thursday. 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Use your time well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hapter 22, Section 2 (This Part 1 is 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ONLY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pages 629-632).  Read and fill out guided notes for homework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UE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THURSDAY, October 13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6844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33160" y="1905120"/>
            <a:ext cx="7467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How did people liv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What did they believ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lig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iolog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tronom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dici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248520" y="304920"/>
            <a:ext cx="2252520" cy="60958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-228960" y="91404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"/>
              </a:rPr>
              <a:t>Life Before the 150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ientific Rev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does one think rationally and find proof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SWER: Scientific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etho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514600" y="3429000"/>
            <a:ext cx="36576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y do we need a scientific “method”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352320" y="1905120"/>
            <a:ext cx="5410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can you OBSERV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can you PROV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can you PREDIC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ientific </a:t>
            </a: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law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an be creat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29941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mpact of Scientific Revolution: </a:t>
            </a:r>
            <a:br>
              <a:rPr sz="4000"/>
            </a:b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So wha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60199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7880" y="1600200"/>
            <a:ext cx="783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deas spread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BEYOND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the world of physical scien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 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Hmm. If there can be laws about the physical world…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4802" t="5335" r="5601" b="2224"/>
          <a:stretch/>
        </p:blipFill>
        <p:spPr>
          <a:xfrm>
            <a:off x="2133720" y="2438280"/>
            <a:ext cx="46479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mpact of Scientific Revolution: </a:t>
            </a:r>
            <a:br>
              <a:rPr sz="4000"/>
            </a:b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So wha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232000"/>
            <a:ext cx="3505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 scientists and thinkers want to apply reason and the scientific method to ALL aspects of socie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CIAL scientists begin discussing laws that explain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human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behavi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60199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380880" y="2552760"/>
            <a:ext cx="4419720" cy="3162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30760" y="1600200"/>
            <a:ext cx="87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…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Maybe we can figure out other laws for how the world works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mpact of Scientific Revolution: </a:t>
            </a:r>
            <a:br>
              <a:rPr sz="4000"/>
            </a:b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So wha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152388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hysical Science AND Social Science encourage new ways of thinking about the worl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ves the way for a movement called th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Enlightenmen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...and back to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THINKING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again!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5486400" y="4267080"/>
            <a:ext cx="1684440" cy="23623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72000" y="60199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3657600"/>
            <a:ext cx="2286000" cy="990720"/>
          </a:xfrm>
          <a:prstGeom prst="cloudCallout">
            <a:avLst>
              <a:gd name="adj1" fmla="val 105833"/>
              <a:gd name="adj2" fmla="val 6233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Hmm…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I think…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t’s put this to the test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cientific Method Activity: 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eth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d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Teenag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 your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Disney Villai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roups, complete the worksheet the best you ca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es = Evil Que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gs = Captain Hoo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eens = Queen of Hear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cks = Chesire C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0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ns = Big Bad Wolf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9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nes = Malific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EEP YOUR DISNEY VILLAIN CARD WITH YOU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9:49:07Z</dcterms:created>
  <dc:creator>defaultuser</dc:creator>
  <dc:description/>
  <dc:language>en-US</dc:language>
  <cp:lastModifiedBy>MCPASD</cp:lastModifiedBy>
  <dcterms:modified xsi:type="dcterms:W3CDTF">2011-10-14T14:46:52Z</dcterms:modified>
  <cp:revision>54</cp:revision>
  <dc:subject/>
  <dc:title>The Scientific Revolution</dc:title>
</cp:coreProperties>
</file>